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A4-31FB-44E9-ABC9-575E359E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4A4-609F-4C74-961C-DA2DAD9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57FC-31BB-4150-9F81-4BA95E14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CF3B4-B378-48B8-9A1C-2AE7AF0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CA9D5-311E-4032-BD9D-86AB157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588B-BBAC-49A0-B8CA-DFE13DF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DD3A6-353A-4399-86B3-C971097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B4C70-4696-491B-B24E-CA44D43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89F94-99FA-4E78-B477-B112F71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37B3B-3AC2-439C-BC11-96BCE4D8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4229F-8F78-4D96-89DE-559C3F2D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E73B0-271E-4DF2-8822-2797513B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757-1D45-4E1C-98E3-A9E659BC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26F1-9F0B-4AE1-86F3-E0549B81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A905B-9A9C-48B8-868C-2311021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5ADF-F8CA-4C85-9380-2E90894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D51E-E582-4418-9BAD-4A1A215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A8104-C479-4467-BC67-99AD0EF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B29D1-130C-4AE3-8242-68B72B6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47C6F-2A54-4D17-A883-21A1C59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835DA-06B9-4522-8A27-D4054EB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B287B-A093-4085-ADC5-9657E20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AD950-206D-4BD4-8898-0AF1F7E8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70B-7451-4C76-BC23-8BF9ED63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50E5-1665-46FB-A6D7-44D5269A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D2EB2-19A1-4780-AE86-E5D46618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B1BA-2D9D-416C-9E9E-092936B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019D-FDB9-45F8-A080-D31B8EB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43C7C-2964-403E-8615-7C802C6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FDFC-5C9A-4956-98C2-7D44300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A6235-179A-4FFC-88DB-657E35B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B7871-74B9-4CFF-B8C0-7D811FD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66AA4-48CA-4863-8490-CDD641A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A0B6-AD80-49C8-9C20-74ABEA5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C6F-01DE-4CF8-A6B5-533088CA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AA6AC-5FF0-40DF-96D6-E21549E3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362A2-6F3D-4DA8-8604-8798B56E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5498-C37A-4F88-9933-EC1E62C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90A88-213C-405D-A91E-232162F1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7079A-FCA9-4923-9284-D87E0F3E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40288-99AF-4667-9E34-19952D6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13714-7309-4FD8-9AED-BC690427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C3E43-930F-4ABA-82A3-C1B811C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5945-527C-4511-8826-3AC5AD25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67B68-00AF-4484-85C4-F53C862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6AF-99D2-4577-8099-BA71F198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29202-7933-41AA-9C05-F4A95EA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F4EDF-3F2E-424A-9912-14F26A7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61EF7-727C-4039-B1A8-51F4BD1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0CD84-3EF0-4263-B1C8-7E530D05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4837-9A2B-4936-B127-9437329B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2CEF1-7703-4B04-9F02-D94875E7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4C8C5-4A49-40D8-B301-D7961100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C3915-0E16-4CBA-AF0E-34B9FF0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CA5D3-E69F-4733-9368-39E234D7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8A3E6-D415-4F4D-8004-A673D4B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9BF-E317-44D5-9F5A-9EC208E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AD607-6AF4-48BE-9B49-2AE83F76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151CA-3579-4170-B7E7-45930B6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2E0FB-3B4D-4078-9448-E1049FF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E4089-FD00-43F8-95FC-400ED83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0A69D-B73E-4F0F-851E-E035D3B3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77213-D0EF-4072-A067-22857DF3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BD43D-EFB8-4117-B6C1-B6648164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9A47F-E3FE-4E5B-B22D-3B35CCA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141AB-1A01-43FF-875B-9E7ECCE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24FEE-770F-4DD2-8EEE-D658F2E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7DD-8BA4-48C3-83CC-8BF62A55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56776-6025-42E6-9102-E54DD00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09868-1629-4478-9B69-190F5B0D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CEBF5-21B2-4219-9FAA-3A45243F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E0489-AA36-4969-A817-A947604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75BA7-BEA6-4CD3-B3A0-296F86D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9C97B-FC41-4A09-9734-EB64723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1EC0D-130B-4F71-864A-896E17B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8AE52-1572-46E3-A85A-BEEBD490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E6C81-2E78-49F4-AB43-A1A898C3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E28AE-40F3-4C41-91AF-B390FDC3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524A-0D87-4C23-949D-704A4778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60F84-E4DC-49A2-AD39-0EBE772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9BD3F-DB8E-424F-AFB5-EB93B00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E4F82-6A61-40A2-B66E-C388A05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D797C-AD24-4437-BAA9-E08C0E8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DC8D8-8356-48F8-BA0F-9CEE32D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A1EDE-47B4-4F24-B047-E92E26C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E2576-EF57-43E9-810C-16D56D9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25206-D953-4E1C-A014-03DD43B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63F5A-A69A-4463-884D-FBFB198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0067D-675A-4475-B755-40CBA308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369-DD5D-4D8E-A2C0-9CD704E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67F1A-94F5-41E3-9960-7A212571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6042C-6391-4BD7-A6DB-DC8ADBF0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637A7-F878-41D9-87F4-8358C1AD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42775-2D45-4396-9EFF-164037D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0B8B1-2D7C-41B2-96A3-C001623B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70DDE-B361-4035-A8B3-36FA27DA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2262B-AE1F-456D-931E-FC1E123D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31F60-DB48-4148-AF05-FA4343E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30E37-C1E4-4B1D-80B5-EBEDF12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9147D-BFFA-4F17-A0BD-FD14660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2A7-72AE-4468-A0D1-747FA9F0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43EEC-A9BB-41B6-B837-6617B07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6E4E7-ED26-4F3B-BF45-CE26D945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7B0BC-1A45-4D43-9743-3EA59FE8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10689-E942-4C44-A115-5097E91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850C0-D971-41AD-90B9-E401050D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530B0-5CB2-4DD8-9C50-19CEC62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E315D-354E-428F-8CD1-4ACCBDC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77DBC-0CE1-48AD-AC40-02A7E69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FF413-E652-4690-875A-90531AE9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30967-CBC8-4A36-A6FD-CA5A054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EF0-8732-488D-B47E-0A86296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39F-94E3-472F-A7A0-BCBD8A5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35E73-ECFA-4756-BB8A-BD7CA46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00659-2701-4297-9B0A-3DDAD50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F81EA-D983-4716-90EB-9DAD3008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7D77C-44DA-4B54-A3EA-502689B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E2887-540C-4F6C-899A-F980155C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43511-C837-47FC-B15A-CB1E79F4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DC61F-3C44-43FD-9B44-8D8DC66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69A8D-7A0F-413F-94CE-84FE223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A6355-1FEB-4FAC-A3F8-E5296FA6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24B31-3D6E-4EDD-8532-9847924C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333-C72A-4022-AB45-20D4C4F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48825-8C7E-421F-A695-9FF6948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BC32B-8539-4A01-AC65-4B2E397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57E0B-5F49-4FE0-91DE-F874470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2CBCC-658F-464A-9A7D-131C9E9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C1E1A-6306-4E45-945C-F92C3D9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7F643-663C-4FF6-841A-E9A32FD6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4EEBD-6382-482F-B33C-3F7A37E7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BDEAD-D836-4D8B-8733-3426ED63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0FD15-CE6E-4A45-8F9C-E15E7515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22CBA-C515-4D70-8173-F66E4BB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320-732C-4031-9EE5-6E93A99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38E15-7156-4B88-A9DD-5E7EA706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2A1FD-DAD9-4DF8-B93C-3E8D8BA2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AB563-D968-4865-83AC-4E37E5A5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52309-A301-4DEF-8953-A4ABFFB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CAD19-CC24-4146-89F6-42AAC3F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AA494-9330-4978-8E75-9CA8356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84DF1-5517-4C49-9A2F-81135AB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FA3FB-1774-4E99-B1D3-AC0575B3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BD1B6-7265-4970-898A-7045C2B0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E9845-AD1E-40CB-B69D-8D44DC69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38BD-C74A-45B4-AB2C-1B56903F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7151B-09BC-46F1-95A6-A03B2B4F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9D0D2-1698-46AD-AE34-EA55F6A1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5210A-684F-40E6-9C05-5726231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59C71-71FD-4EE2-8B08-4CC6504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95F6E-73BF-443B-A8AA-3742257F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63CC4-0E7F-4C71-96FB-5370C0D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5C6A3-B2DD-42AF-B2DE-ADEF4EA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63FE6-36BD-4D8E-A399-F8947C0A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635C8-D28F-4044-BB5C-D79E360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83946-6736-443A-96B6-2E2EE3C4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65B-4A7E-45E4-B8DF-02BB26D0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BBE25-C440-4A7F-97E0-1CF7785D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6A763-EC88-45F1-9F9F-35414D79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AEFF5-0B3D-40B8-9860-786F637C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BB3A8-3CB6-43A4-81C2-D9FF874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28022-4D49-4A26-96B3-3CF2E7E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E329E-0F37-47DF-A94B-D37E4C8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207C9-0AC8-4B4B-A719-8C97932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63417-0DCC-494C-AA18-5C93CF0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C9490-6A8B-4068-9B2B-F8913ED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91D73C-9193-4443-8F92-08A02D6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6576-03EC-4FE7-AA44-F0734F90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E6B7D-0E15-41C8-BF99-E72EF08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C862F-3793-49F3-BC68-AAB5AAE5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EA04F-27D7-4432-9121-0969C868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5A29-51FC-4EA5-B8DD-1E082F6A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841E-335B-4DEE-B92B-C54F772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2A3D-32DA-42E6-B609-0AD57B7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B2DC-6F16-4885-BA72-B8C4960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751-D091-4834-999D-B85044B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5C94-2E3D-4E5C-8C89-B010DD8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F2F0-4E54-4373-8B94-CC7D446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26AE-F335-4930-80A0-0DFEAE2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CD0A-9542-49BF-AE10-0ED7AB0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2600-B0F3-4F1B-BFE8-280411F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1586-2ACA-4479-A6C8-20505A9E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4F74-8601-4A20-BF12-092379A0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E215-7372-4F42-A80F-0C12EF95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762F-097A-4673-AD71-BC17F95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34B4-C6AE-44DD-AAB8-8904F0A0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E59-F277-48E0-9572-1670088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BFE2-F46D-4BCD-B661-B716FFB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E5CD-8E47-4368-AF24-C973744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3296-0CFE-4EB6-92B6-796B72F4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FED5-ED4C-4903-9561-BA6AE9F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816C-13FE-461A-BB6D-8818213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486D-2504-432E-9A2E-A7A4CAC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C149-FBFA-4ED7-82CE-BDD7153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BE19-E202-4DFA-AD6E-87920342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306B-DB59-47C5-8640-DA847345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EA07-B752-4517-8D59-2CBB5B6E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25E-E361-493B-9D65-AF36A97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40662-CA18-4435-9F37-FFEF17D6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CCE7-1B58-4545-B0E6-B0CF934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5E70-0F9D-4CFA-9D55-A475E7F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59FA-D4F4-4CBD-9394-93EE0DC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6B0A-F02A-4AF0-9AD6-5D8C05C2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3F56-4C5A-4D79-AEC0-17C264E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AACF-90AA-472B-9060-94F52C1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3EF3-6046-4EFE-AD8F-71D5B15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8C08-8197-4CCB-B014-FDE780F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B683-8343-496D-A068-09051E03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786-3DEB-4C36-B7F9-EBE95C7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AD65-13B2-493B-B334-9E24484A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3EDD-3554-42B2-81BF-3D963D6C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EC67-B30D-480D-BD3B-D363DC5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B0D6E-D729-401C-B733-2A5E41C2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E7F4-D4A6-405C-BEB2-2323A37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641A-B2DE-4A7A-B42D-913C74F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35A1-3F81-4284-8733-9EDD862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9365-6B37-4B61-9C2B-99BF01A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9502-5B7B-41CC-929F-1401F3D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6165C-CE7A-4F16-BC95-FAD2BE5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55F-1289-44CB-8025-7B7C8E8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6BC5-DB28-4B07-892E-BDCD342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2F4A-2314-43B6-A71A-C44675C2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DA2C-BFD3-46F5-86C4-40E3F56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3B2C-CC08-4E01-BFB7-0FE37F3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C614B-2194-46DE-A86B-334D7F78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0BDCC-2903-4F35-A3E2-ABF1A6C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2DC9-E30B-44F5-ABFB-1CA4CB73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161A-0EDB-4BDC-8D9D-38A6E2CD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BF71-C585-4446-A487-77CD0EF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BE9B-D833-4626-952B-72E58B4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BDA-F544-40FC-9FE3-99D35B1C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463B-935F-4304-B911-F2C894C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39478-12AB-45F1-B419-677DC6F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AB4F-2376-4D5A-9A37-CD31224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CD1F-33E2-4C3F-B8AC-BC522E58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BB0BD-0B0C-4B92-9820-068214B8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9683-F88E-47A7-8B03-4C3EBC21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C953-C58A-4FC2-A8F6-B6721AD4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9DDEF-19B5-4AC7-9E05-88B5B03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5F2B-404A-4DF6-A056-0415EDBF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91F1-F027-4A4B-BD1D-EE29DFBC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2F3-C3A1-454F-AAD5-227A644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A5BC-AD51-4486-B895-797E08D0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DB04-EA76-4B09-BBF9-1B3B03F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C19C-8EB5-4FA1-9499-FFD1407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0131A-5C59-4EBF-ADB3-4BEB98E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B3966-03E5-4AD1-8E54-32A038DC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3DD4-BB00-45B9-A028-9693370B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D308F-6629-4F6E-B933-2A51E4B6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242B4-6C4C-491B-A5EF-978628BB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1BF8-7623-4ABD-AD9A-C2D3F17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9CDB-EF86-4084-8544-BD8D0699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47F9-FD7A-4879-8509-C72D62BE1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6DB-9160-40BE-8CCD-CED25495E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E36-DC3C-4FE9-BB18-8E65A6D1D3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2F82-561B-40A1-A3EA-108AAE35B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8B3-2901-464B-9376-7DA394F1E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977-BF64-4B1F-9CD4-1107AF0BA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474-6350-4AC3-AAE1-1D7FF5006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1E90-FCBD-43CC-BE62-F71C56203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034-C3BB-4B48-8089-77DC41FB8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714-7654-4EBD-A16B-22F940AD0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021-1529-4ED0-AFE0-03D42BF99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5BF4-4749-49D4-8CB8-4D871F77C5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3A09-6AA4-4872-87D1-129E3D856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C5C-4412-4DF3-9797-23F6C2F647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DC2-502C-4900-81B9-081BCD658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CD34-224A-4B82-8FE5-4EC58384EA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67D-8914-487C-AC47-843181D37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51F-DA72-4A5E-A7D4-ABFE9D26E3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0D2-5D65-4DB2-B0ED-78A492A275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5E3-3EF6-4038-90EA-C6500C97C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BEC-46E9-4B40-8F41-EA3DA0960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0A9-4644-4E75-93D1-4FEAD0254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43A-1743-4A42-96FD-0F90AF5D3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D70-9AE8-44B9-90CC-20B846F55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AB88-1004-4DA7-B8F3-22CEC655F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E7A-F492-4726-8467-284E1CF44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DF5-94DE-480E-952D-63A8A470E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EC7-6974-42C0-AF94-0A56D302B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943-81C4-44CB-A1DA-B30216E8A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BE58-5F7F-428D-8B05-241F19D7F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2C1C-9138-4F53-B397-C1001BE6F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131E-6790-4E94-B14B-80DC547F9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FF2-D159-4E23-89E2-106436AF5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60A-5D19-4113-85A4-7EB3FB430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B42F-7D1F-42D1-9634-5F408C402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6D8-81A2-4D2C-9C11-F3633A300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F95-EEFE-4AC7-89F5-0F652CC7C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B7D-190C-4022-A37B-AAD795664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F4C-E84A-4FCE-9F07-B77E0F8B6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9166-3E46-49A9-9072-404B94006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476840" cy="10861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4667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81080" y="3133800"/>
            <a:ext cx="69818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48680" cy="60105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2286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82080" cy="578160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0008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2857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4929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80960" y="1047600"/>
            <a:ext cx="8182080" cy="47628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3143160" y="1428840"/>
            <a:ext cx="121464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3143160" y="2173320"/>
            <a:ext cx="235764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4422600" y="2951280"/>
            <a:ext cx="1109880" cy="442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5718240" y="3808440"/>
            <a:ext cx="1214280" cy="398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6"/>
          <p:cNvSpPr/>
          <p:nvPr/>
        </p:nvSpPr>
        <p:spPr>
          <a:xfrm>
            <a:off x="1092240" y="4621320"/>
            <a:ext cx="121428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7"/>
          <p:cNvSpPr/>
          <p:nvPr/>
        </p:nvSpPr>
        <p:spPr>
          <a:xfrm>
            <a:off x="4168800" y="5021280"/>
            <a:ext cx="9288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91440" cy="56102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3071880" y="1571760"/>
            <a:ext cx="1357200" cy="39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5000760" y="1571760"/>
            <a:ext cx="10713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1046160" y="1965240"/>
            <a:ext cx="1214280" cy="366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1000080" y="2786040"/>
            <a:ext cx="10717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2428920" y="2786040"/>
            <a:ext cx="121428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7"/>
          <p:cNvSpPr/>
          <p:nvPr/>
        </p:nvSpPr>
        <p:spPr>
          <a:xfrm>
            <a:off x="4014720" y="2806560"/>
            <a:ext cx="714600" cy="365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"/>
          <p:cNvSpPr/>
          <p:nvPr/>
        </p:nvSpPr>
        <p:spPr>
          <a:xfrm>
            <a:off x="1200240" y="3603600"/>
            <a:ext cx="11430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9"/>
          <p:cNvSpPr/>
          <p:nvPr/>
        </p:nvSpPr>
        <p:spPr>
          <a:xfrm>
            <a:off x="4032360" y="3579840"/>
            <a:ext cx="1214280" cy="366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0"/>
          <p:cNvSpPr/>
          <p:nvPr/>
        </p:nvSpPr>
        <p:spPr>
          <a:xfrm>
            <a:off x="7286760" y="3571920"/>
            <a:ext cx="121428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1"/>
          <p:cNvSpPr/>
          <p:nvPr/>
        </p:nvSpPr>
        <p:spPr>
          <a:xfrm>
            <a:off x="1022400" y="4057560"/>
            <a:ext cx="121428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2"/>
          <p:cNvSpPr/>
          <p:nvPr/>
        </p:nvSpPr>
        <p:spPr>
          <a:xfrm>
            <a:off x="1000080" y="4857840"/>
            <a:ext cx="121464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3"/>
          <p:cNvSpPr/>
          <p:nvPr/>
        </p:nvSpPr>
        <p:spPr>
          <a:xfrm>
            <a:off x="4992840" y="4768920"/>
            <a:ext cx="857160" cy="366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4"/>
          <p:cNvSpPr/>
          <p:nvPr/>
        </p:nvSpPr>
        <p:spPr>
          <a:xfrm>
            <a:off x="6215040" y="5572080"/>
            <a:ext cx="9288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5"/>
          <p:cNvSpPr/>
          <p:nvPr/>
        </p:nvSpPr>
        <p:spPr>
          <a:xfrm>
            <a:off x="7572240" y="5572080"/>
            <a:ext cx="9288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10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533520" y="1214280"/>
            <a:ext cx="8076960" cy="442944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6775560" y="1874880"/>
            <a:ext cx="8571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6080040" y="2414520"/>
            <a:ext cx="196704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6172200" y="3411360"/>
            <a:ext cx="1685880" cy="360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3571920" y="3929040"/>
            <a:ext cx="16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3840120" y="445464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0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